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088-F57E-4F54-8B7A-DDA8284A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E2B-A57F-4F3D-8F65-CEA5F5A3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1B5-7DF2-42F1-B3FC-70439168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E88-6A9C-47C9-998B-95B44C6D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4CA-C219-434D-B222-E4901796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A55-33F2-41DB-BE3E-7B833DBA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2D9-17CD-4431-BB3F-4112708D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A6C-01AA-420F-898E-E20A91CB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84B-CBC6-447C-AB47-BF75A97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3B4-9D3F-4EFB-B7D3-3B4E0E9A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DCF-B43A-4E1F-A9D0-AB34DA57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D0F-DE99-4B9D-BB5E-0D9AC8CE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7F4-CE90-49C7-8B75-EC325AB6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499360" cy="567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6324480" cy="83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74674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848720" cy="133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1532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108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990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5345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78204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059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15364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43:17Z</dcterms:created>
  <dc:creator>grahams</dc:creator>
  <dc:description/>
  <dc:language>en-US</dc:language>
  <cp:lastModifiedBy>grahams</cp:lastModifiedBy>
  <dcterms:modified xsi:type="dcterms:W3CDTF">2012-04-26T13:40:12Z</dcterms:modified>
  <cp:revision>2</cp:revision>
  <dc:subject/>
  <dc:title>Slide 1</dc:title>
</cp:coreProperties>
</file>